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072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800"/>
            </a:b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O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ганск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ија 1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, етри и епоксиди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35684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молекулске масе долази и до пораста тачке кључања за примарне алкохоле, и тај пораст за сваку нову метиленску групу износи око 18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ату молекулску масу, рачвање угљоводоничког низа смањује тачку кључања као и код угљовод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е кључањ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, i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аклохола су 117 и 25,5 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ецил-алкохол је први алкохол са нормалним (правим) низом који је чврст на собној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 који садрже три или мање од т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 као и т-бутил-алкохол мешају се са водом на 20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тил-алкохол растворљив је у води само 8% док су примарни алкохоли са више од 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 растворљиви у води чак мање од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алкохола могу градити водоничну везу са молекулима воде, па тако долази до мешања две 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алкохола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 алк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ње угљених-хи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је један од најстаријих синтетских органских једињења којим се човек кор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лику примену у индустрији као растварач за боје, лакове, мирисе и зачине, а такође се користи и као растварач за извођење многих реак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се налази у алкохолним пићима. За ту сврху се добија ферментацијом шећ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 етилалкохол се класификује као хипнотик (успављивач). Мање је токсичан од осталих алкох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даји се среће алкохол који је 9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 етил алкохол назива се апсолутни алкохол и знатно је скупљи од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-ног алкох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сјко добијање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м  алкил – халоген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X   +    OH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 R-OH   +   X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лк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ком адицијом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785880" y="4500720"/>
          <a:ext cx="59832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500720"/>
                    <a:ext cx="5983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Box 4"/>
          <p:cNvSpPr/>
          <p:nvPr/>
        </p:nvSpPr>
        <p:spPr>
          <a:xfrm>
            <a:off x="3936960" y="4857840"/>
            <a:ext cx="3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0040" y="121392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о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лкене и хидролизом добијеног алкил-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сулф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 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→ 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+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меркурирање и демеркурир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никовљево прави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боровањем-оксидацијом алкена (анти-Марковниковљево прави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155560" y="2071800"/>
            <a:ext cx="3729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8"/>
          <p:cNvGraphicFramePr/>
          <p:nvPr/>
        </p:nvGraphicFramePr>
        <p:xfrm>
          <a:off x="1285920" y="3286080"/>
          <a:ext cx="607536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286080"/>
                    <a:ext cx="60753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9"/>
          <p:cNvGraphicFramePr/>
          <p:nvPr/>
        </p:nvGraphicFramePr>
        <p:xfrm>
          <a:off x="1357200" y="4857840"/>
          <a:ext cx="5865840" cy="11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4857840"/>
                    <a:ext cx="58658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лација алкена (добијају се дио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карбонилних 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киселина и ес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1143000" y="1643040"/>
          <a:ext cx="479916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43040"/>
                    <a:ext cx="47991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4"/>
          <p:cNvSpPr/>
          <p:nvPr/>
        </p:nvSpPr>
        <p:spPr>
          <a:xfrm>
            <a:off x="6002280" y="185724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л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072840" y="271476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л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285920" y="3786120"/>
          <a:ext cx="49593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3786120"/>
                    <a:ext cx="49593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1285920" y="5286240"/>
          <a:ext cx="395748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5920" y="5286240"/>
                    <a:ext cx="39574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о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gnard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г реагенса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ма и кетонима (настају примарни, секундарни и терцијарни алкохо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-окс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олна конденза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</a:t>
            </a:r>
            <a:r>
              <a:rPr b="0" lang="sr-C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-карбонлна једињењ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алкохола обухватају раскидање ил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O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(уз уклањањ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) ил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(уз уклањањ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т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два типа реакција могу укључити супституцију, у којој долази до замене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ил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тома, или елиминацију, која води формирању двоструке везе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а раскидање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O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халогеноводоничном кисел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огеноводоничне киселине преводе алкохоле у алкил-халоген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I 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реактиван од свих халегеноводоника), захтева присуств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is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киселине, обичн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C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реакцију са примарним и секундарним алкохо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 халогеноводоник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 &gt; H Br &gt;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 алкохла: алил-, бензил &gt; 3°&gt; 2°&gt;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714240" y="2928960"/>
          <a:ext cx="608652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928960"/>
                    <a:ext cx="6086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 друге стране, врло реактивни 2 –метил-2-пропанол лако се преводи у хлорид једноставним мућкањем са концентровано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на собној темпре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што је хидроксилни јон група која се тешко елиминише, реакција се убрзава протонацијом алкохола или грађењем комплекса с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Lewis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овим кисел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а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Lewis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ова киселина најчешће се употребљав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C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то што је растворен у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HC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 што не реагује са присутном в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2143080" y="2286000"/>
          <a:ext cx="4749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286000"/>
                    <a:ext cx="4749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3"/>
          <p:cNvSpPr/>
          <p:nvPr/>
        </p:nvSpPr>
        <p:spPr>
          <a:xfrm>
            <a:off x="2090880" y="3500280"/>
            <a:ext cx="51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метил-2-пропанол             2-хлор-2-метил-про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 су једињења која имају хидроксилн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у за угљоводонични 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се сматрати дериватима воде, где је један атом водоника замењен алкил гру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номенкл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формула засићених монохидроксилних алкохола отвореног низа ј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+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члан хомологог низа има молекулску формул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овом молекулском формулом, поштујући правила валенце могућа је само једна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3000240" y="5429160"/>
          <a:ext cx="271152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5429160"/>
                    <a:ext cx="27115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Box 4"/>
          <p:cNvSpPr/>
          <p:nvPr/>
        </p:nvSpPr>
        <p:spPr>
          <a:xfrm>
            <a:off x="4287960" y="578628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с-ов тест служи за разликовање примарних, секундарних и терцијалних алкохола заснива се на њиховим релативним брзинама реакције с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 је раствор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C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лкохоли растварају се у овом реагенсу градећи оксонијум-соли, па раствор остаје бистар дуже време, због мале брзине настајања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-халоген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алкохоли дају најпре бистар раствор, који постаје мутан после пет минута, и на крају се одвајају два сло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алкохоли реагују са реагенсом тако брзо, да се стварање раствора тешко детектује, јер се одмах издваја хло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акција са фосфортрихалогенид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857160" y="1643040"/>
          <a:ext cx="558324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643040"/>
                    <a:ext cx="5583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itle 1"/>
          <p:cNvSpPr/>
          <p:nvPr/>
        </p:nvSpPr>
        <p:spPr>
          <a:xfrm>
            <a:off x="500040" y="2857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хидратација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714240" y="3571920"/>
          <a:ext cx="753768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571920"/>
                    <a:ext cx="75376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5"/>
          <p:cNvSpPr/>
          <p:nvPr/>
        </p:nvSpPr>
        <p:spPr>
          <a:xfrm>
            <a:off x="857160" y="485784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 реактивности алкохола ј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 &gt;  секундарни  &gt;  прима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 је карбонијум-јон, па су могућа премеш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а раскидање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H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активним металима (алкохоли као кисе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OH  +  Na  →   R-ONa    +    1/2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алкохолима је спорија од реакције са в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да са порастом молекулске масе алкох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алкохола опада у низ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2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међусобних реакција појединих група једињења, а према правилу да јача киселина истискује слабију из њене соли, утврђен је релативни ацидитет неких група 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кисе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&gt; R-OH  &gt; HC≡CH  &gt; NH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R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баз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RO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HC≡C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NH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R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71680" y="114300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они производ метанола са натријумом познат је као натријум-метокс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ава се и израз натријум –метилат, али он није задовољавајући, јер се израз “акохолат” често употребљава за комплексе лкохола са неорганским солима, аналогно хидра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ксиди су изузетно корисна једињења и користе се као јаке базе (јаче су од хидрокси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њих с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група уводи у молеку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подлежу хидроли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a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→    R-OH  +   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терифик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добијања естара са органским киселинама су реверзибилне и катализоване малом количином јаке киселине, најчешће сумпор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000080" y="3357720"/>
          <a:ext cx="64184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357720"/>
                    <a:ext cx="6418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сидација у алдехиде и кет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алкохоли се оксидују до алдехида помоћу калијум-дихромата или директно до карбоксилних помоћу калијум-перманга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алкохоли се оксидују до ке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алкохоли не подлежу реакцијама оксид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022400" y="2643120"/>
          <a:ext cx="630216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2643120"/>
                    <a:ext cx="63021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1071720" y="5072040"/>
          <a:ext cx="499572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5072040"/>
                    <a:ext cx="49957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164304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ростији етри имају општу формул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+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су стога изомерни са алкохоли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формула етра се може приказат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O-R, R-O-Ar, Ar-O-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члан серије има молекулску формул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-метил-етар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нил-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31760" y="4500720"/>
          <a:ext cx="5158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4500720"/>
                    <a:ext cx="5158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 особ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и поседују јако мали диполни моме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 кључања су због мале поларности врло ниске, а приближно су исте као код ал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и су у води скоро као алкохоли. Разлог добре растврљивости је могућност грађења водоничне везе са молекулим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2928960" y="4714920"/>
          <a:ext cx="2382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4714920"/>
                    <a:ext cx="2382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амсонова син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ву реакцију се не могу употребити арил-халогениди јер су слабо реактивни за нуклеофилне супститу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и алкил-халогениди не подлежу реакцији Вилиамсонове 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071720" y="2428920"/>
          <a:ext cx="60512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428920"/>
                    <a:ext cx="60512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7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 се класификују 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е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е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-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е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-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 алкохол се обично сврстава у групу са примарним алкохо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броју хидроксилних група алкохол се дели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хидрокси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хидрокси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хидрокси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идрокси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структуре угљоводоничног низа, могу бити алифатични (незасићени или засићени), циклични или ароматични који се називају фено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интезу несиметричних диалкил-етара, у принципу постоје увек две комбинације реагенаса, од којих је једна бољ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за синтез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тил-етил-естра теоретски су могуће следеће комбинације реактанат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857160" y="3071880"/>
          <a:ext cx="6782040" cy="18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3071880"/>
                    <a:ext cx="67820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лкоксимеркурирање-демеркур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571680" y="2357280"/>
          <a:ext cx="751968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357280"/>
                    <a:ext cx="751968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кс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ксиди су трочлани циклични ет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2357280" y="2643120"/>
          <a:ext cx="194976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2643120"/>
                    <a:ext cx="19497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епокс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халоген-хид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м пероксида на двоструку везу угљеник-угљ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обензојев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бензо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1000080" y="2428920"/>
          <a:ext cx="59104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428920"/>
                    <a:ext cx="59104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1071720" y="4357800"/>
          <a:ext cx="65163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357800"/>
                    <a:ext cx="6516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епокс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-катализовано цепање епок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 напада више супституисани угљеников а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-катализовано цепање епок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 напада мање супституисани угљеников а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857160" y="2643120"/>
          <a:ext cx="617868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643120"/>
                    <a:ext cx="61786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3"/>
          <p:cNvGraphicFramePr/>
          <p:nvPr/>
        </p:nvGraphicFramePr>
        <p:xfrm>
          <a:off x="928800" y="5000760"/>
          <a:ext cx="6613560" cy="94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5000760"/>
                    <a:ext cx="661356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 Грињаревим реаген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 напада мање супституисани угљеников 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928800" y="2857680"/>
          <a:ext cx="668952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857680"/>
                    <a:ext cx="66895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 алкохол се, почев од 18. века, односи на активан принцип опојних пић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да ова реч води порекло од арапске реч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ku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а је коришћена за ситно спрашен антимон-сулфид, који су Арабљанке употребљавале као козметичко средство за црњење трепав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је израз употребљаван за ма коју фино уситњену супстанцу, а затим у 16. веку у смислу “есенција” тј. основни или кључни састојак (алкул-вини – есенција из в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ј половини 19. века израз алкохол почео је да се употребљава за алкохол из в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система номенклату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-функцијски: алкил групи, за коју је везана хидроксилна група, даје се назив, па се томе дода посебна реч алкохол. Између ове две речи ставља се цр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деривати карбинола (друго име метил-алкохола): имена се граде из назива супституената – алкил групе (или група, поређаних по абецедном реду) као префикса и речи карбин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предлажу избегавање ове номенкл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менк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менлатуре за алкох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дужи угљеников низ који садржи хидроксилну групу одређује главни део наз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не мора бити увек и најдужи низ у молекул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у одговарајућег засићеног угљоводоника додаје се наставак 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чни низ обележава се бројевима, почев од краја који је ближ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ним низовима даје се назив и њихов положај такође означава одговарајућим бројевима, према правилима која важе за угљоводо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алкохоли зову се циклоалкан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 атом прстена за који је везана хидроксилна група аутоматски се означава броје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643040" y="2857680"/>
          <a:ext cx="5562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857680"/>
                    <a:ext cx="5562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3"/>
          <p:cNvSpPr/>
          <p:nvPr/>
        </p:nvSpPr>
        <p:spPr>
          <a:xfrm>
            <a:off x="1529280" y="542916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ол                        1-етил-циклопента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35684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упституент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се зове “хидроксилна груп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се префиксом “хидрокси-” када је присутна и друга група, која има предност при навођењу, или када се хидроксилна група налази у бочном 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(OH)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хидрокси-хекс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особ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пореде са алканима , имају абнормално високе тачке кључ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за високе тачке кључања је исти као и код воде: асоцијације молекула преко водонич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 силе између молекула алкохола нису тако велике као оне између молекула воде, зато што водоникови атоми алкил-група не граде водоничну ве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е стране, волуминозност алкил група смањује вероватноћу повољне оријентације два молекула алкохола за грађење водоничне везе између двеју хидроксилних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1-24T18:14:37Z</dcterms:modified>
  <cp:revision>177</cp:revision>
  <dc:subject/>
  <dc:title>Slide 1</dc:title>
</cp:coreProperties>
</file>